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8B99-34C8-4EBB-8099-EE19CA43F6D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8EE0-D254-4D82-9972-27F1E0CE081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94FF4-748C-40F4-B982-8FD93CAC7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2370-B934-41AC-8A26-74C78987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5DB2B-C99D-4490-9316-3FA261532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86BE7-B030-4AF8-9D3F-1610A688B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647B-9B8E-4D96-8BB0-DB1D424E3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E8358-3837-4FEA-B505-53F8D89A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D750-5A45-4385-91EF-46C15686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B437-AB8A-4284-948E-22AE033F9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6DA7E-DFA3-4F52-B996-4EF6951F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18EF-6A19-40DB-A666-1939145C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CFBC5-CF0E-40C5-8267-94C63076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B707-A754-4D34-A959-C6D0D5CE7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3D7B-141F-47BB-9B6A-5B72509B3155}"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65.xml"/><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25.xml"/><Relationship Id="rId12" Type="http://schemas.openxmlformats.org/officeDocument/2006/relationships/slide" Target="slide35.xml"/><Relationship Id="rId13" Type="http://schemas.openxmlformats.org/officeDocument/2006/relationships/slide" Target="slide45.xml"/><Relationship Id="rId14" Type="http://schemas.openxmlformats.org/officeDocument/2006/relationships/slide" Target="slide55.xml"/><Relationship Id="rId15" Type="http://schemas.openxmlformats.org/officeDocument/2006/relationships/slide" Target="slide17.xml"/><Relationship Id="rId16" Type="http://schemas.openxmlformats.org/officeDocument/2006/relationships/slide" Target="slide27.xml"/><Relationship Id="rId17" Type="http://schemas.openxmlformats.org/officeDocument/2006/relationships/slide" Target="slide37.xml"/><Relationship Id="rId18" Type="http://schemas.openxmlformats.org/officeDocument/2006/relationships/slide" Target="slide47.xml"/><Relationship Id="rId19" Type="http://schemas.openxmlformats.org/officeDocument/2006/relationships/slide" Target="slide57.xml"/><Relationship Id="rId20" Type="http://schemas.openxmlformats.org/officeDocument/2006/relationships/slide" Target="slide19.xml"/><Relationship Id="rId21" Type="http://schemas.openxmlformats.org/officeDocument/2006/relationships/slide" Target="slide21.xml"/><Relationship Id="rId22" Type="http://schemas.openxmlformats.org/officeDocument/2006/relationships/slide" Target="slide23.xml"/><Relationship Id="rId23" Type="http://schemas.openxmlformats.org/officeDocument/2006/relationships/slide" Target="slide29.xml"/><Relationship Id="rId24" Type="http://schemas.openxmlformats.org/officeDocument/2006/relationships/slide" Target="slide39.xml"/><Relationship Id="rId25" Type="http://schemas.openxmlformats.org/officeDocument/2006/relationships/slide" Target="slide49.xml"/><Relationship Id="rId26" Type="http://schemas.openxmlformats.org/officeDocument/2006/relationships/slide" Target="slide59.xml"/><Relationship Id="rId27" Type="http://schemas.openxmlformats.org/officeDocument/2006/relationships/slide" Target="slide31.xml"/><Relationship Id="rId28" Type="http://schemas.openxmlformats.org/officeDocument/2006/relationships/slide" Target="slide41.xml"/><Relationship Id="rId29" Type="http://schemas.openxmlformats.org/officeDocument/2006/relationships/slide" Target="slide51.xml"/><Relationship Id="rId30" Type="http://schemas.openxmlformats.org/officeDocument/2006/relationships/slide" Target="slide61.xml"/><Relationship Id="rId31" Type="http://schemas.openxmlformats.org/officeDocument/2006/relationships/slide" Target="slide33.xml"/><Relationship Id="rId32" Type="http://schemas.openxmlformats.org/officeDocument/2006/relationships/slide" Target="slide43.xml"/><Relationship Id="rId33" Type="http://schemas.openxmlformats.org/officeDocument/2006/relationships/slide" Target="slide53.xml"/><Relationship Id="rId34" Type="http://schemas.openxmlformats.org/officeDocument/2006/relationships/slide" Target="slide63.xml"/><Relationship Id="rId35" Type="http://schemas.openxmlformats.org/officeDocument/2006/relationships/slide" Target="slide3.xml"/><Relationship Id="rId3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Statistics Canada collects statistics about all aspects of Cana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7621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ependency Lo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533520" y="533520"/>
            <a:ext cx="784836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ercentage of a country’s population age 0 to 15 and over 65 that do not participate in the work force but depend on others who are involved in the work forc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ould you calculate the birth rate of a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rPr>
              <a:t>Number of births divided by population times one thousand</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685800" y="76212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mig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69880" y="228600"/>
            <a:ext cx="792468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Immigration is when people who come from another Country to make Canada their permanent residence. </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wo examples of push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228600"/>
            <a:ext cx="7696080" cy="5687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Extreme winter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tax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unemployment</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Family </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116676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symbols that are connected to Canadi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380880"/>
            <a:ext cx="7925040" cy="6571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aver</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een</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olson Canadian</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ooney</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RCMP</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anada’s official policy on multiculturalism?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58720" y="120600"/>
            <a:ext cx="80010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are encouraged to retain their cultural heritage while also being committed Canad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visible minort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nic groups within society who look different from the major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ther tong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nguage a person first speaks and still understan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long hou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76360" y="304920"/>
            <a:ext cx="80010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Long wood framed buildings covered with bark in which families lived together and shares resources. Open fires provide heat and cooking facilitie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European settlers do to the Cree la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nodeType="afterEffect"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clear-cut the forests and turned their land into mining cities.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atives saw the forest 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175248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o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ree reasons why cities are located where they a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228600"/>
            <a:ext cx="8076960" cy="6265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Access to water</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Access to fertile land</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Natural harbor</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Running water to power industries</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Developed along a railway</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Developed beside a major highway</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Close to natural resources.</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trassendorf?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ettlement where farmhouses are all built along one main stree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9144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gri-busin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erations that own and farm vast amounts of la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st three problems that major cities f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1" lang="en-US" sz="18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2" name="AutoShape 60">
            <a:hlinkClick r:id="rId35"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762120" y="152280"/>
            <a:ext cx="7619760" cy="66927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crime rat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Overcrowding in school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Run down area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raffic grid lock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ge distrib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people fall into different age grou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160020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ree ways that Aboriginal peoples differ from one an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2556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584280" y="336600"/>
            <a:ext cx="7924680" cy="6198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vernmen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they live</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nguage</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6127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ere the two key terms of the Royal Proclamation Act (1763)</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304920"/>
            <a:ext cx="77724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Land ownership rights of the First Nations must be respected </a:t>
            </a: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If a First Nation did choose to give up land, it should receive a fair payment for it.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22860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In long lot systems the river was a major transportation route and provided what two things for the peopl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 and fis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6002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is mean to say “Canada has a low population den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762120" y="12193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ens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ur country is not crow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09480" y="304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intervening obstacles? Provide an exam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606600" y="304920"/>
            <a:ext cx="784836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Factors that discourage a person from following through on his/her decision to immigrate </a:t>
            </a: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They include immigration requirements, the distance involved and the cost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6127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ent wrong after the Aboriginals signed the treaty with the Europe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685800" y="304920"/>
            <a:ext cx="7772400" cy="58892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ometimes received small one time payment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Didn’t understand what they were signing</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utnumbered by European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6" name="Text Box 3"/>
          <p:cNvSpPr/>
          <p:nvPr/>
        </p:nvSpPr>
        <p:spPr>
          <a:xfrm>
            <a:off x="609480" y="165240"/>
            <a:ext cx="792504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boriginal tribe were skilled in making canoes, totem poles, decorative boxes and bow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i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0"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people move from rural areas to urban are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800280" y="304920"/>
            <a:ext cx="754380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Loss of jobs on farm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New and interesting job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Night life</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Entertainment</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ocial life</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of the six city land u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685800" y="114300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A survey of the popul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609480" y="304920"/>
            <a:ext cx="7772400" cy="6385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sident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ommerc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ndustr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nstitution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creation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ransportation</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762120" y="144792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early rural Canada, besides farming, where did people work?</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44480" y="304920"/>
            <a:ext cx="7620120" cy="63410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Forestry</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Fishing</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tore keeper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Blacksmiths</a:t>
            </a:r>
            <a:endParaRPr b="1" lang="en-US" sz="54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illers</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natural resources were cities built a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1828800"/>
            <a:ext cx="807732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s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est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s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9" name="Text Box 3"/>
          <p:cNvSpPr/>
          <p:nvPr/>
        </p:nvSpPr>
        <p:spPr>
          <a:xfrm>
            <a:off x="685800" y="137160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d describe the three types of immigrant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228600"/>
            <a:ext cx="7848720" cy="66927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Independent (business and skilled)</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Family </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Refugees </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762120" y="76212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opulation den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58680"/>
            <a:ext cx="73152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Population density is the number of people per square kilometer in an ar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role of statistics Cana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Jason</cp:lastModifiedBy>
  <dcterms:modified xsi:type="dcterms:W3CDTF">2010-12-15T04:24:13Z</dcterms:modified>
  <cp:revision>31</cp:revision>
  <dc:subject/>
  <dc:title>No Slide Title</dc:title>
</cp:coreProperties>
</file>